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C21-C028-4633-A12B-13FE52D3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834-4422-41F2-A74E-E4AC56D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20C-7064-4844-B4EF-855F1D67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D56-9E96-4EDD-B7D7-519C8788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5C4D-30E3-4670-A885-001BA402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8DB6-DB10-45E3-9615-3881B4A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F44A-FE30-4A37-B40A-0DE0AD24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7A2B-B14D-40E3-9064-133E074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45BE-FF3E-487B-B1E9-C97D798E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457E-E8A4-4F64-AE05-3BE90A74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83D1-6C00-4847-AB4C-FFB8FFF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39A-3747-4C30-B2F6-512B2CE0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59E8-2AFD-442F-AEB9-27F9CE5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76C-A06F-4589-9B48-201D3CF1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55D5-123B-44B6-B07D-1159BD7E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5326-426F-495A-B7F7-7F75FCF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C96B-E292-4ECE-8D7A-DC39A4E2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117-7EC8-4B6D-AC96-EA7A4EC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F7F-0C31-4EDD-8AAD-DDB90E2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5BF-3381-490B-9878-A042CC75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71D-885B-49E9-968D-FEA729E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885-6298-4A2A-B116-572055B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E32-853E-485D-A561-B35B499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245-A8C2-4F50-81D9-0631187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570-4513-48D9-BCAE-58CEFC5B0B7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0CA2-66E3-49D3-B936-D8BBB6477E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a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 questions are used when the speaker is trying to involve the listener in the convers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2362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ted conoce a la señora Slonek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nes quince añ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Ecu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tenemos un examen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Verb +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38080" y="213372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Y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stions can be answer with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These questions normally start with the verb then the subj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Estás b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eñora Martínez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profes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señora Martínez la profes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2120" y="2057400"/>
            <a:ext cx="7696080" cy="377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gimnasio está cerca de la cafeter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l gimnasio cerca de la cafeter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computación es difíc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computación difíc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formed by add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sí o 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 o fals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end of a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2120" y="2057400"/>
            <a:ext cx="7696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muerzo es al medio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almuerzo al mediod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erto está en la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oberto en la clase de espa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español es por la tar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español por la tar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crib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 estudiantes muchas composicio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533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ds + verb + 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type of questions words request information. These questions begin with a question word like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Tweetie po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62120" y="205740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 trabaja después del coleg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ba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ara después del coleg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133720"/>
            <a:ext cx="72392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tu tía favori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la chica al lado de Dav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38080" y="1828800"/>
            <a:ext cx="723924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 when dealing with groups of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n esas chicos jugando al béisb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los profesores de matématicas aquí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Pablo, Sara, y Ju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tu nueva amig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 una calcualadora que puedo us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tus pad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el presidente de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después de la escue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los chicos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un restaurante mexicano en Harr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tu herm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queda corre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el museo de antropolog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mos cuando estamos en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la tarea para la clase de matéma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clase de espo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la camisa ro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enchila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s la clase de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fecha de tu cumpleañ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pantalones de ray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rmina la cl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l cine? Quiero acompañ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236232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0:13:03Z</dcterms:created>
  <dc:creator>Paul Widergren</dc:creator>
  <dc:description/>
  <dc:language>en-US</dc:language>
  <cp:lastModifiedBy>Jeff</cp:lastModifiedBy>
  <dcterms:modified xsi:type="dcterms:W3CDTF">2010-10-21T19:49:00Z</dcterms:modified>
  <cp:revision>5</cp:revision>
  <dc:subject/>
  <dc:title>No Slide Title</dc:title>
</cp:coreProperties>
</file>